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44A1-59E0-4C71-95A1-3BF485924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C7A1-82C6-44CC-BD4D-6A65DC32C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3B8-2D9F-4A40-B7BF-7AFEBDC7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D96-4082-4E60-930B-89040D6E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B453-551D-4472-9C70-09FF2CEA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7CC-D8D7-4C09-AE16-5A34002A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B0C6-60D0-4ADF-B5D2-C2DB247A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089C-7004-4787-96A1-B2B35CFC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229B-B588-488F-9214-507A7312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9F59-8983-4E43-A021-70E5AB2C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989F-B4C6-4A50-B6B0-014C20C0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FC0E-2CF9-4BE6-8BD4-B3EAF002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F196-6922-4A2A-92BC-9AB3DA70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458E-E6BE-474E-88B9-BFFEC894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2F29-0907-4BA5-A9B4-24C01FBF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DBC4-0EF8-45D3-9AB6-1B787A53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0E64-E050-4125-A440-2D875BB2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1983-FCFA-4626-99B9-D1BACDB0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ED61-7286-4C7F-8B75-C4105FE4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E1B-7519-489F-B37B-9D470F87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358-CCD8-4768-BE39-693B9A5E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277-1445-4732-95DB-BB907FA2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62C-D007-4820-A57E-2883E51A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531-E44C-404A-8C22-751A58AB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489-8209-4913-A8A4-6866937F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E32C-514E-4250-8C5D-763BB720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5640-EE0F-473D-8754-C0A8F83D6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F3BD-81D4-4DAE-9B7C-2E4605356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23840" y="3124080"/>
          <a:ext cx="9020160" cy="3810240"/>
        </p:xfrm>
        <a:graphic>
          <a:graphicData uri="http://schemas.openxmlformats.org/drawingml/2006/table">
            <a:tbl>
              <a:tblPr/>
              <a:tblGrid>
                <a:gridCol w="6095880"/>
                <a:gridCol w="292428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i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el Us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279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imate WR and consumption of crops grown under different soils Climat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WAT (vr. 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quaCrop (Vr.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sp>
        <p:nvSpPr>
          <p:cNvPr id="90" name="TextBox 2"/>
          <p:cNvSpPr/>
          <p:nvPr/>
        </p:nvSpPr>
        <p:spPr>
          <a:xfrm>
            <a:off x="22860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On-site Impacts- Water Demand and Water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85800" y="57150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 Vs alternative AWM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53416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rop water productivity modeling: Demand and impact at a field level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CWR and Consumption of crops grown on Vertisols under current and alternative AWM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54160" y="1371600"/>
            <a:ext cx="866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144000" cy="733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685800" y="1122480"/>
            <a:ext cx="8001000" cy="6767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9829800" cy="711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990720" y="1058760"/>
            <a:ext cx="10228320" cy="689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5"/>
          <a:stretch/>
        </p:blipFill>
        <p:spPr>
          <a:xfrm>
            <a:off x="555480" y="3505320"/>
            <a:ext cx="8817120" cy="6197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6"/>
          <a:stretch/>
        </p:blipFill>
        <p:spPr>
          <a:xfrm>
            <a:off x="-25560" y="0"/>
            <a:ext cx="10439640" cy="963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able 1" descr=""/>
          <p:cNvPicPr/>
          <p:nvPr/>
        </p:nvPicPr>
        <p:blipFill>
          <a:blip r:embed="rId1"/>
          <a:stretch/>
        </p:blipFill>
        <p:spPr>
          <a:xfrm>
            <a:off x="30240" y="1006560"/>
            <a:ext cx="9083520" cy="4956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2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1: WR, Consumption and WP of wheat grown on BBF and Flat seedb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152280" y="6019920"/>
            <a:ext cx="609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BF and Flat beds planted on July 1 and August 15, respective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 2: WR, Consumption and WP of rice, grass-pea and extensively  grazed grass grown on flat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280" y="990720"/>
          <a:ext cx="8931240" cy="5492520"/>
        </p:xfrm>
        <a:graphic>
          <a:graphicData uri="http://schemas.openxmlformats.org/drawingml/2006/table">
            <a:tbl>
              <a:tblPr/>
              <a:tblGrid>
                <a:gridCol w="1189080"/>
                <a:gridCol w="1123920"/>
                <a:gridCol w="168480"/>
                <a:gridCol w="549000"/>
                <a:gridCol w="1276560"/>
                <a:gridCol w="1036440"/>
                <a:gridCol w="317520"/>
                <a:gridCol w="497160"/>
                <a:gridCol w="161640"/>
                <a:gridCol w="538200"/>
                <a:gridCol w="111240"/>
                <a:gridCol w="527040"/>
                <a:gridCol w="1434960"/>
              </a:tblGrid>
              <a:tr h="365400">
                <a:tc gridSpan="1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p type: Rice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 row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 (kg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eff. rain 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ETc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 WP (kg 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with respect 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mass WP with respect to eff. 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. 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we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we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44440">
                <a:tc gridSpan="1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 type: Grass -pea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we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we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43720">
                <a:tc gridSpan="1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 type: Pasture  (extensive grazing)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320">
                <a:tc rowSpan="2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1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mass (kg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. rain 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WR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mass WP (kg 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with respect to Actual  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BBF increased water demand, but reduced evaporation l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BF increased WP with respect to effective rainf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ing rice instead of grass-pea or grazing  increased water demand, but reduced evap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BBF on drainable and rice on flat land increased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Economic Water Produ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5:30:21Z</dcterms:created>
  <dc:creator>Erkossa, Teklu  (IWMI)</dc:creator>
  <dc:description/>
  <dc:language>en-US</dc:language>
  <cp:lastModifiedBy>LeBorgne, Ewen (ILRI)</cp:lastModifiedBy>
  <dcterms:modified xsi:type="dcterms:W3CDTF">2012-11-13T06:28:54Z</dcterms:modified>
  <cp:revision>52</cp:revision>
  <dc:subject/>
  <dc:title>Anticipating Impacts AWM Interventions</dc:title>
</cp:coreProperties>
</file>